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B1E-FDD2-4624-B644-53AD89BE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9D0-A694-42D9-95D6-297D3C8A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CF6-0575-4984-B704-22D0922C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9F9-7EB3-41A6-A167-121B5ED4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CBF-FFB6-47B5-9398-CCFAC311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A83-DBDD-453E-BB70-738E6AA7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5C5-BEF9-460D-9BA5-C940197B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8A4-CA36-408A-B3F8-DF7AB98A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438-381A-4A0C-AA4E-F4BE6739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8C1-7839-4342-A1D3-BC212997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C8E-0317-4D68-B505-9A8A3BD4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774-BED4-4E09-A7E3-CA3D919F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382A-4DC8-4611-B675-B89581824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nciples and Plan for Organizing ESA Research Across Tanzania, Malawi and Zamb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oup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ding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TF – Zambia: SIML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MMYT and IITA (maize-legume syste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tern Zamb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TF – Zambi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ICRIS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ndnut + aflatox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TF – Tanzani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Morogoro (rice); Manyara and Dodoma (maize);  Mbeya (horticulture), et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LES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aize-legume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awi, Tanzania, Mozambique, Kenya, Ethiop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illover – Uganda, Rwanda, Zambia, Botsw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IMLES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maize, legumes, livest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act orientation  - shared vision to change livelihoods through integrated interven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untry participation and ownership – not contract resear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gagement of all relevant stakehold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y a lead national partner (research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ignment with national and regional investment and food security pri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ster the systems perspectiv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pacity strengthening to rebuild national capac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suring participation and recognition of farmers’ contribu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nder equity - inclusion of women (and me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coordinator (lead cen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coordinators (assigned by national lead partn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objective or theme leaders (key part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focal points for each theme/obj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coordination by regional/zonal research c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ed report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, national, objective focal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nerships to make this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earch centers (germplasm and technologi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ension agenc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vate sector (feed, seed, fert, vet, finance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GOs – out-sca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gulatory agencies, bureau of standards, et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nk with other projects (scaling up/out, spillov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ledge management system for the project (website, data, newsletter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novation platforms to support learning and farmer-led innov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exchange vis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ross farming system in each cou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oss-country vis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ientist and partner exchange vis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field d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ion plots/model fa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ticipatory on-farm tri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ilitating and spillov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 planning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ing of resul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coordinator plus 4-5 reps from country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eld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from SRO for spillovers (CCARDESA, ASARECA, ECA, COMESA, e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level (in-kind awards for team wor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level awards to recognize team work and excell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tion of farmer contributions and lead innov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6:19:04Z</dcterms:created>
  <dc:creator>bshiferaw</dc:creator>
  <dc:description/>
  <dc:language>en-US</dc:language>
  <cp:lastModifiedBy>eleborgne</cp:lastModifiedBy>
  <dcterms:modified xsi:type="dcterms:W3CDTF">2012-02-09T09:06:56Z</dcterms:modified>
  <cp:revision>16</cp:revision>
  <dc:subject/>
  <dc:title>Plan and Principles for Organizing ESA Research Across Tanzania, Malawi and Zambia</dc:title>
</cp:coreProperties>
</file>